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_rels/notesSlide15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7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5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DA82-3B22-42D9-9848-062E73A5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C09E-3636-4C74-9DC6-E5A1E012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yuri.lbl.gov/amigo/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example: ‘chromosome’ in Sequence Ontology and in Cell Component Ontology means differen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olution: two distinct terms involved (qualified by respective name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ecies called ‘non-rabbi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biological species: unknown rabbit. See discussio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DCE0-A85F-43EC-99F2-0DC7CAC94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3A27-18E1-45AD-A9F4-25024F2DD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4459-10D9-402E-BB81-F98128FC1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88E5-639B-43B0-87DB-2B44D08D3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EE6C-7822-4AD1-946A-5AD6A779F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6D7B-9A34-4C88-B966-EE74E4F78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164A-D74D-4704-9100-98655D9CF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597E-6481-4604-867D-D155688CB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E66C-B6BE-411E-A1CB-E43FA7D24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6EC4-C31E-46E0-84CE-A1738D974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A6E4-1AC3-4512-8438-2D8FCB4B5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1B1F-FFAC-459E-B6CA-E6F368E14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43440" y="6552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6809-2F3E-404E-9923-95AA91CF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obi.sourceforge.net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3300120"/>
            <a:ext cx="84582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ontology.buffalo.edu/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BE6C-CDF8-489A-B3C8-91EBA291B5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057400"/>
          <a:ext cx="8458200" cy="4267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B1F5-9334-4079-95FD-02D1E85D6B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need rules/standards for good on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2206800"/>
            <a:ext cx="84582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ies must be intelligible both to humans (for annotation and curation) and to machines (for reasoning and error-checking): the lack of rules for classification leads to human error and blocks automatic reasoning and error-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ules allow alignment with other ont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CEB2-446A-46F7-8858-E6E0098EFCF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79215"/>
                </a:srgbClr>
              </a:gs>
              <a:gs pos="50000">
                <a:srgbClr val="333399"/>
              </a:gs>
              <a:gs pos="100000">
                <a:srgbClr val="000000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legends for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711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E18B-2831-47BE-9AB5-5C20DF9D7DE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ndomized controlled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rctbank.ucsf.edu/ontology/outline/inde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573D-EF6B-4A94-8D91-A5870D8E5B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B7D5-80DE-4C6C-9D69-FA52F7FE7A1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at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al-entry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tiv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groun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ping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a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u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C9E6-945C-42C7-BBA9-B11105D9377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Most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3D4E-1D0B-4A35-AC09-F72EE86C7C5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DA4F-4359-4C7C-B909-0011FC67731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6984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iv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-size-calc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ression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ping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-variable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cellaneous-outco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valu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1FC6-E3C7-47EA-B6FC-130972C4F1A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0D09-9AFE-4EAC-B78D-F35E6F0BB9C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6010-A0D1-496E-83FD-CD663F02089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057400"/>
          <a:ext cx="8458200" cy="4276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1410-4C3E-472A-BB22-BE384329C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top level should look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0A3D-3F6A-4B07-A917-8C7C3E2351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kinds of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curren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ocesses, events, happenin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bjects, qualities, stat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37D5-4283-44AC-91D5-D849417C56F4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tinuants (aka endur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ist </a:t>
            </a:r>
            <a:r>
              <a:rPr b="0" i="1" lang="de-DE" sz="3200" spc="-1" strike="noStrike">
                <a:solidFill>
                  <a:srgbClr val="ffffff"/>
                </a:solidFill>
                <a:latin typeface="Arial"/>
              </a:rPr>
              <a:t>in toto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whenever they exist at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ccurrents (aka proce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A88B-B246-4AEF-8737-1AD8B461096B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re a continu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n occur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3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4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6514-AE78-4DDD-9360-1B2C92B0CB3C}" type="slidenum">
              <a:t>113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endent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run without a ru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CC70-1EF7-42C7-B2C8-48BFFD3C4E1C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ent vs. independent continu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03160" y="2142720"/>
            <a:ext cx="803592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continuants (organisms, buildings, environ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 continuants (quality, shape, role, propensity, function, status, power,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813A-62D4-4258-86A9-FA9EC68F349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occurrents are dependent ent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520" y="2571840"/>
            <a:ext cx="84582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2E37-BC7C-41DE-A689-6BFE448009F3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FO 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606680"/>
            <a:ext cx="2692440" cy="189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lways 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one or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4" idx="2"/>
            <a:endCxn id="496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4" idx="2"/>
            <a:endCxn id="497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52880" y="1219320"/>
            <a:ext cx="0" cy="502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9E1A-5DBE-4A35-8DEE-4939CE5D23FF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A representation of top-level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00400" y="34290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502" idx="2"/>
            <a:endCxn id="50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502" idx="2"/>
            <a:endCxn id="505" idx="0"/>
          </p:cNvCxnSpPr>
          <p:nvPr/>
        </p:nvCxnSpPr>
        <p:spPr>
          <a:xfrm>
            <a:off x="2514240" y="2895480"/>
            <a:ext cx="1562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-47520" y="4537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49760" y="3029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17640" y="4543560"/>
            <a:ext cx="26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97EC-EA88-41DF-9C7C-4513C41E63C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5029200"/>
            <a:ext cx="2133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12" idx="2"/>
            <a:endCxn id="51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2" idx="2"/>
            <a:endCxn id="515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3" idx="2"/>
            <a:endCxn id="516" idx="0"/>
          </p:cNvCxnSpPr>
          <p:nvPr/>
        </p:nvCxnSpPr>
        <p:spPr>
          <a:xfrm flipH="1">
            <a:off x="5638320" y="2895120"/>
            <a:ext cx="12708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13" idx="2"/>
            <a:endCxn id="517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"/>
          <p:cNvCxnSpPr>
            <a:stCxn id="522" idx="0"/>
            <a:endCxn id="515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1632-A276-463F-A057-D454098753E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2057400"/>
          <a:ext cx="8458200" cy="4618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BFO (Basic Formal Ontolog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O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NO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wissPr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e-commerce, etc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OAF top leve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person, topic, document, primary topic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mazon.com 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Library of Congress Cata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C75F-E25C-46CB-9F1A-DC9BC9C9B0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9124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5" idx="2"/>
            <a:endCxn id="527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5" idx="2"/>
            <a:endCxn id="528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6" idx="2"/>
            <a:endCxn id="529" idx="0"/>
          </p:cNvCxnSpPr>
          <p:nvPr/>
        </p:nvCxnSpPr>
        <p:spPr>
          <a:xfrm flipH="1">
            <a:off x="5857200" y="2895480"/>
            <a:ext cx="10515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2"/>
            <a:endCxn id="530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stCxn id="535" idx="0"/>
            <a:endCxn id="528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45E1-F4AF-441C-B992-1342955AF7D5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04920" y="1523880"/>
            <a:ext cx="8381520" cy="3657600"/>
            <a:chOff x="304920" y="1523880"/>
            <a:chExt cx="8381520" cy="3657600"/>
          </a:xfrm>
        </p:grpSpPr>
        <p:sp>
          <p:nvSpPr>
            <p:cNvPr id="539" name=""/>
            <p:cNvSpPr/>
            <p:nvPr/>
          </p:nvSpPr>
          <p:spPr>
            <a:xfrm>
              <a:off x="1299240" y="1523880"/>
              <a:ext cx="255708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19080" y="1528920"/>
              <a:ext cx="2509920" cy="106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ccur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92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87040" y="3033000"/>
              <a:ext cx="163368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720" y="4353480"/>
              <a:ext cx="156276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74720" y="4363920"/>
              <a:ext cx="1565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23960" y="4356000"/>
              <a:ext cx="1491480" cy="81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pat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eg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0016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10920" y="3033000"/>
              <a:ext cx="1775520" cy="125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ide-Effect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ochas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rocess, 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8" name=""/>
            <p:cNvCxnSpPr>
              <a:stCxn id="539" idx="2"/>
              <a:endCxn id="541" idx="0"/>
            </p:cNvCxnSpPr>
            <p:nvPr/>
          </p:nvCxnSpPr>
          <p:spPr>
            <a:xfrm flipH="1">
              <a:off x="1298520" y="2592720"/>
              <a:ext cx="12790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39" idx="2"/>
              <a:endCxn id="542" idx="0"/>
            </p:cNvCxnSpPr>
            <p:nvPr/>
          </p:nvCxnSpPr>
          <p:spPr>
            <a:xfrm>
              <a:off x="2577600" y="2592720"/>
              <a:ext cx="92664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40" idx="2"/>
              <a:endCxn id="546" idx="0"/>
            </p:cNvCxnSpPr>
            <p:nvPr/>
          </p:nvCxnSpPr>
          <p:spPr>
            <a:xfrm flipH="1">
              <a:off x="5693760" y="2592720"/>
              <a:ext cx="9802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40" idx="2"/>
              <a:endCxn id="547" idx="0"/>
            </p:cNvCxnSpPr>
            <p:nvPr/>
          </p:nvCxnSpPr>
          <p:spPr>
            <a:xfrm>
              <a:off x="6674040" y="2592720"/>
              <a:ext cx="112536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2" name=""/>
            <p:cNvCxnSpPr>
              <a:stCxn id="542" idx="2"/>
              <a:endCxn id="543" idx="0"/>
            </p:cNvCxnSpPr>
            <p:nvPr/>
          </p:nvCxnSpPr>
          <p:spPr>
            <a:xfrm flipH="1">
              <a:off x="1582560" y="3850200"/>
              <a:ext cx="192132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3" name=""/>
            <p:cNvCxnSpPr>
              <a:stCxn id="542" idx="2"/>
              <a:endCxn id="544" idx="0"/>
            </p:cNvCxnSpPr>
            <p:nvPr/>
          </p:nvCxnSpPr>
          <p:spPr>
            <a:xfrm flipH="1">
              <a:off x="3357360" y="3850200"/>
              <a:ext cx="146880" cy="51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4" name=""/>
            <p:cNvCxnSpPr>
              <a:stCxn id="542" idx="2"/>
              <a:endCxn id="545" idx="0"/>
            </p:cNvCxnSpPr>
            <p:nvPr/>
          </p:nvCxnSpPr>
          <p:spPr>
            <a:xfrm>
              <a:off x="3503520" y="3850560"/>
              <a:ext cx="1566360" cy="50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55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557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nstances (in space and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1CFA-72F9-4C18-B388-541715414309}" type="slidenum">
              <a:t>121</a:t>
            </a:fld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rcRect l="0" t="17547" r="20396" b="0"/>
          <a:stretch/>
        </p:blipFill>
        <p:spPr>
          <a:xfrm>
            <a:off x="228600" y="-52560"/>
            <a:ext cx="8915400" cy="692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3890-3CE8-4DFA-AA03-E7F4653CCC02}" type="slidenum">
              <a:t>122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rcRect l="8649" t="17547" r="3289" b="8771"/>
          <a:stretch/>
        </p:blipFill>
        <p:spPr>
          <a:xfrm>
            <a:off x="0" y="-152280"/>
            <a:ext cx="9144000" cy="57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FA69-2245-4FC5-9365-D0DA62E02E58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TO will be part of OB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y of Biomedical Invest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bi.sourceforge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in turn part of the OBO Found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9DB2-E568-4D99-BD46-F85430E51FD6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rcRect l="0" t="36195" r="72502" b="40039"/>
          <a:stretch/>
        </p:blipFill>
        <p:spPr>
          <a:xfrm>
            <a:off x="762120" y="914400"/>
            <a:ext cx="533376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733E-3962-45AA-87AF-61F2F0B07F31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rcRect l="0" t="26112" r="70805" b="38889"/>
          <a:stretch/>
        </p:blipFill>
        <p:spPr>
          <a:xfrm>
            <a:off x="0" y="0"/>
            <a:ext cx="8653320" cy="691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AF3C-5FC2-46A9-B697-B08B02939483}" type="slidenum">
              <a:t>1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948D-C169-4952-AE0A-631BD7C42A54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rcRect l="10698" t="2778" r="0" b="27778"/>
          <a:stretch/>
        </p:blipFill>
        <p:spPr>
          <a:xfrm>
            <a:off x="0" y="357120"/>
            <a:ext cx="9144000" cy="47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C651-31E9-4AAE-83CA-F7951F9822E7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C1B5-548D-4795-B715-D0B4E81AA2D0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3276720"/>
            <a:ext cx="587376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8FB5-0847-41E8-A504-E65BDD4FE4F7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293F-F496-47F5-BEAD-5268C75D758F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F138-A288-4E5D-B755-458A739EA484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F1C2-3FD5-4FCE-9BF7-0FFEDC74D16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Outcom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Administrativ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AAEE-9BA4-44FB-AD16-3B6AC92FB7B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iv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ity-languag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-gender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3788-C50B-4F57-A037-77634874A951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rcRect l="23028" t="17547" r="7697" b="25161"/>
          <a:stretch/>
        </p:blipFill>
        <p:spPr>
          <a:xfrm>
            <a:off x="0" y="0"/>
            <a:ext cx="9448920" cy="586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C4ED-D300-4C22-94B3-DEFB0AE7584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rcRect l="23028" t="19299" r="8553" b="14038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2759-9F52-4E46-9ECB-B823B1AA209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A5A6-73AA-4860-A6DF-E22930778115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2852-237E-4085-9645-9B9A3020A7FD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9434-CE9E-46D8-AA5A-D636A0FBFA7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Price hasA Denomination InstanceOf Dollar (p. 1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-Unit instanceof System-of-Units (p. 4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ndbook of Ontolog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emantic Web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8872-B1CB-47DF-9AA6-069A44102F1D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81FA-65A7-45A6-A373-3E70BC1E08D3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DFEA-D65D-428B-8A5E-4D513B426D3E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-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??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63E8-EC81-4EE7-9F72-96F62D0CE28C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89A7-96B0-40E0-8720-6DE37E982CD9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Intervention-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res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det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ED50-E69E-4013-BC94-A14958D1EA62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9867-22E9-4754-B32B-D0341414E7A3}" type="slidenum">
              <a:t>145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: Clinical Trial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poi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nical t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vention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ignment of populations to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ex experimental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ll hypothesi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interv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2D25-2AD6-43C2-8E7E-A78ED5FB1A12}" type="slidenum">
              <a:t>14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GE idea: use OBI to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sign data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to solve this problem of converting the ontology to a database 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‘instances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ng images (image repositori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on = shared understanding of a body of knowled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run a trial I stick my data in Excell and create a 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atabase, design tables – that’s it – no more anno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data is added regarding provenance, this data was added by A and corrected by Mc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 rare disease people share their data: here’s my data, here’s my data key, 1 is for males, 0 is for fem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ing is lo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UCSF (Clinical Data Repository) neurodegenerative people MS talk to Alzheimer’s they can’t because  (a) because of Hippa, (b) dataschemas are so different, (c) response to NIH: they put their excell spreadsheet out there, well gee whizz, (d) PharmGKB faced problems because of this (e) more obtuse the better. I can get another paper out of this d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possibility of meta-analysis –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posite of biologists’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555B-0EAC-475A-929F-DCDDF6737055}" type="slidenum">
              <a:t>147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104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 of the Onto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gy of Biomedical Investig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nks to Trish Whetzel on behalf of the FuGO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30F4-C446-4125-976F-4D4750FAE108}" type="slidenum">
              <a:t>148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a resource for the unambiguous description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iomedical investig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ch as the design, protocols and instrumentation, material, data and types of analysis on the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designed to model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consistent annotation of data across differen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biologic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able powerful concept-driven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semantically-driven data 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FE7B-B8EF-48EF-AD6B-6CB3E9232ED2}" type="slidenum">
              <a:t>149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: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ntological Engineering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Semantic Web 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=def. a spatial point identified by a name (p.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ivalPlace =def. a journey ends at a location (p. 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t =def. ternary relation that holds between a frame, a slot, and the facet (p. 51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07B4-9A45-4ECF-BC43-29A3A1670C5F}" type="slidenum">
              <a:t>15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1668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Motivation for 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ization efforts in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biological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ynt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ata exchange 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vide a mechanism for software interoperability, e.g. FuGE 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man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Controlled vocabularies or 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 commonalities for annotation term needs across domains to describe an investigation/study/experiment, e.g. F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A865-1F7D-4E74-910D-FB1A23E73A49}" type="slidenum">
              <a:t>150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medical Investigation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76320" y="1981080"/>
          <a:ext cx="3220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3220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429000" y="2590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terial and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9718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nipulations or perturbations or observations performed on the material to meet the general aim of the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39625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he material was prepared for analysis - e.g. labeling, protein diges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9000" y="46483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instrument and settings that wer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52578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sults from the instrument, e.g. what units are re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594360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ype analysis performed to confirm/deny the hypothesis, e.g. clus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429000" y="1905120"/>
            <a:ext cx="5410080" cy="703800"/>
            <a:chOff x="3429000" y="1905120"/>
            <a:chExt cx="5410080" cy="703800"/>
          </a:xfrm>
        </p:grpSpPr>
        <p:sp>
          <p:nvSpPr>
            <p:cNvPr id="658" name=""/>
            <p:cNvSpPr/>
            <p:nvPr/>
          </p:nvSpPr>
          <p:spPr>
            <a:xfrm>
              <a:off x="3429000" y="1905120"/>
              <a:ext cx="541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cribe the design and purpose or general aim of the the Investiga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1981080"/>
              <a:ext cx="5257800" cy="533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429000" y="2666880"/>
            <a:ext cx="5334120" cy="304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3048120"/>
            <a:ext cx="5334120" cy="91440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4038480"/>
            <a:ext cx="5334120" cy="6098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29000" y="4724280"/>
            <a:ext cx="5334120" cy="5335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5334120"/>
            <a:ext cx="5334120" cy="6094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6019920"/>
            <a:ext cx="5334120" cy="8380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CC1A-FEE1-4096-B8E6-C9F230EB35DC}" type="slidenum">
              <a:t>151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trategy Deci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nified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is identified early in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al/Common terms are defined by all those collabo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bi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rms can be added as needed by collabo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needed to develop the on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2600" y="2057040"/>
            <a:ext cx="414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dependent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 ‘Ontology’ in a time frame limited only by the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of different working polic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f different top level cla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at lower levels of the ontology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8AE0-9B7E-4DEA-9FC4-4B381CE6BCE8}" type="slidenum">
              <a:t>152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llect Use Cases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examples of investigations as performed within a community and present Use Cases to developers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tom up approach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entify concepts to describe using controlled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terms and their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n terms in the top level ontology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p down approach - collaborative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ild a top level ontology structure, is_a (vertic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ke a list of other foreseen (horizont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view how Top Level Nodes fit in with the Upper Level Ont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73FB-5349-435A-B861-E725B0ADB561}" type="slidenum">
              <a:t>153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- Top Level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 on another 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nvironment (depend on the set of ranges of conditions, e.g. geographic lo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Characteristics (entity that can be measured, e.g. temperature, un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alizable: an entity that is realizable through a process (executed/r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oftware (a set of machine instru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esign (the plan that can be realized in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ole (the part played by an entity within the context of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s on its 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ll physical entity (instrument, technology platform, document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iological material (organism, popul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ccurre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occurs/unfold i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emporal Regions, Spatio-Temporal Regions (single actions or Eve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vestigation (the entire ‘experimental’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tudy (process of acquiring and treating the biological mater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ssay (process of performing some tests and recording the resul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4A35-96DD-4278-8BA5-F91FEFB982B1}" type="slidenum">
              <a:t>154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erging FuGO Design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O Foundry ontology, utilize ontology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herit top level classes from an Upper Level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the Relation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llow additional OBO Foundry princip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Facilitates interoperability with other OBO Foundry 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recommendations for naming conventions and 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rmat for term names, e.g. underscore vs. camel case, no pur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Alphanumeric identifier for terms, I.e. something that does not have semantic mea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chanisms for adding synonym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pen source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égé/OW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Weekly conference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hared environment using Sourceforge (SF) and SF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F196-6019-4BA6-A998-FF5D77989B54}" type="slidenum">
              <a:t>155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inning process -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Reconciliations into one canonical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Iterativ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Common 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king practices - establi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class consists of: unique alphanumeric identifier, human readable string name, definition and com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forge tracker in place to collect comments on terms, definitions,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ntology so that top level classes meet the needs of all involved ‘communities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B7EB-D465-4E17-B603-C904616511C1}" type="slidenum">
              <a:t>15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Collaborating Commun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 sciences Generation Challenge Programme (GCP), www.generationcp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al 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omic Standards Consortium (GSC), www.genomics.ceh.ac.uk/genomecatalog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PO Proteomics Standards Initiative (PSI), psidev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ology Database and Analysis Portal, www.immport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e Epitope Database and Analysis Resource (IEDB), http://www.immuneepitope.org/home.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Society for Analytical Cytology, http://www.isac-net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bolomics Standards Initiative (MSI), msi.workgroups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rogenetics, Biomedical Informatics Research Network (BIRN), www.nbirn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xico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omics MGED Ontology Group, mged.sourceforge.net/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8CA5-216C-4D15-8E5A-6EE7EE276720}" type="slidenum">
              <a:t>157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oidy level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is a model organism - Locate in XML Schema or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or the description of the biological material sequenced (isolate, soil sample etc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st - point to the NCBI Tax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lth/disease status of source host at time of collection - point to Diseas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CC52-256C-448C-B076-AEF376691051}" type="slidenum">
              <a:t>158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sample - Point to Unit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strategy (was it enriched, screened, normalized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preparation (DNA extraction method and amplific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DA, emPCR, plones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ing Method Used (e.g. dideoxysequencing, pyrosequencing, polony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D211-D978-446B-9E66-DE7F2EFCBCAB}" type="slidenum">
              <a:t>159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5B58-4F16-40B0-9779-4548FBB7314B}" type="slidenum">
              <a:t>1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mbly (assembly method, estimated error rate and method of calculation)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ication (binning) method for fragments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0418-9AED-46B0-9F21-9CEE5601579C}" type="slidenum">
              <a:t>160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chanisms for GSC to Contribute to Fu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 involved in standardiz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nefit - choice in where to encounter tha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oice of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nds the work done by all those collaborating for use by a give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lap of terms at lower levels of the ontology tr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ed to re-build when top-level cha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77D0-58BE-432C-95DA-4157EA1F549C}" type="slidenum">
              <a:t>16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23880" y="4724280"/>
            <a:ext cx="61722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03440" y="48006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ttp://fugo.sourceforge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51CC-C0ED-4AE8-96C5-91471473DD02}" type="slidenum">
              <a:t>162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A279-EC9C-492B-86FE-D75706969AC5}" type="slidenum">
              <a:t>163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BCD5-D0F4-4432-BAF6-5F7EA8F83E43}" type="slidenum">
              <a:t>164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3473-B5F8-47EC-9E49-8D33FB177E83}" type="slidenum">
              <a:t>165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169F-9BE2-444C-8EEC-B35743570947}" type="slidenum">
              <a:t>16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639E-2866-419C-9B8B-37601FA2C196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basic disti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cience tex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di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 Maximili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5000-4D23-4F04-A55C-31732FCA2C6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nces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atabas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3000" y="2057040"/>
            <a:ext cx="796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neraliz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are important = universals, types, kinds,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1475-FC6F-4B20-B666-48090EDA86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8120" y="-22860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talog vs.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A5A0-7965-4FD0-8062-033D4196D74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ion of the NCB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reate software and support services for science-based ontology development and use in the biomedical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ontologies for support of scientific research (taken as encompassing evidence-based medic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using the scientific method as part of the process of ontology development and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D4D7-94C6-4FF7-92F4-1C7DAFC9F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vs.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92" t="22228" r="3704" b="14819"/>
          <a:stretch/>
        </p:blipFill>
        <p:spPr>
          <a:xfrm>
            <a:off x="0" y="1994040"/>
            <a:ext cx="9144000" cy="34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4920" y="1981080"/>
          <a:ext cx="9032760" cy="3479400"/>
        </p:xfrm>
        <a:graphic>
          <a:graphicData uri="http://schemas.openxmlformats.org/drawingml/2006/table">
            <a:tbl>
              <a:tblPr/>
              <a:tblGrid>
                <a:gridCol w="2860200"/>
                <a:gridCol w="3086280"/>
                <a:gridCol w="3086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9FA1-4A84-4247-A441-140B3C2583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of Universals/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320" y="1981080"/>
          <a:ext cx="8991360" cy="3479760"/>
        </p:xfrm>
        <a:graphic>
          <a:graphicData uri="http://schemas.openxmlformats.org/drawingml/2006/table">
            <a:tbl>
              <a:tblPr/>
              <a:tblGrid>
                <a:gridCol w="2795400"/>
                <a:gridCol w="3097440"/>
                <a:gridCol w="30985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0C58-5AE9-4A28-9609-C9E9792B14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    Universals    Insta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04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05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105" idx="4"/>
                <a:endCxn id="107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07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"/>
              <p:cNvCxnSpPr>
                <a:stCxn id="107" idx="4"/>
                <a:endCxn id="112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4" name=""/>
            <p:cNvCxnSpPr>
              <a:stCxn id="115" idx="4"/>
              <a:endCxn id="116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17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18" name=""/>
              <p:cNvCxnSpPr>
                <a:stCxn id="119" idx="4"/>
                <a:endCxn id="115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15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6" idx="4"/>
              <a:endCxn id="123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27" name=""/>
            <p:cNvCxnSpPr>
              <a:stCxn id="116" idx="4"/>
              <a:endCxn id="124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26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"/>
              <p:cNvCxnSpPr>
                <a:stCxn id="126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31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"/>
              <p:cNvCxnSpPr>
                <a:endCxn id="126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33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C561-B967-4F1E-979D-28AA6CFB8538}" type="slidenum">
              <a:t>2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41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42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"/>
              <p:cNvCxnSpPr>
                <a:stCxn id="142" idx="4"/>
                <a:endCxn id="144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45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44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"/>
              <p:cNvCxnSpPr>
                <a:stCxn id="144" idx="4"/>
                <a:endCxn id="149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0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1" name=""/>
            <p:cNvCxnSpPr>
              <a:stCxn id="152" idx="4"/>
              <a:endCxn id="153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54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55" name=""/>
              <p:cNvCxnSpPr>
                <a:stCxn id="156" idx="4"/>
                <a:endCxn id="152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7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52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3" idx="4"/>
              <a:endCxn id="160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3" idx="4"/>
              <a:endCxn id="161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63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7" name=""/>
              <p:cNvCxnSpPr>
                <a:stCxn id="163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68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endCxn id="163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70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7721-F411-4A2F-8608-617F6AF4F18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76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77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8" name=""/>
              <p:cNvCxnSpPr>
                <a:stCxn id="177" idx="4"/>
                <a:endCxn id="179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0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79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3" name=""/>
              <p:cNvCxnSpPr>
                <a:stCxn id="179" idx="4"/>
                <a:endCxn id="184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5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"/>
            <p:cNvCxnSpPr>
              <a:stCxn id="187" idx="4"/>
              <a:endCxn id="188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89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90" name=""/>
              <p:cNvCxnSpPr>
                <a:stCxn id="191" idx="4"/>
                <a:endCxn id="187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92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87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8" idx="4"/>
              <a:endCxn id="195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99" name=""/>
            <p:cNvCxnSpPr>
              <a:stCxn id="188" idx="4"/>
              <a:endCxn id="196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98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"/>
              <p:cNvCxnSpPr>
                <a:stCxn id="198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203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4" name=""/>
              <p:cNvCxnSpPr>
                <a:endCxn id="198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05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1447920"/>
            <a:ext cx="5410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node of an ontology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ferred term (aka 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rm identifier (TUI, aka C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tion, glosse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93CB-27DE-43B2-845F-CB472216DB2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y is a representation of univers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about universals in reality from looking at the results of scientific experiments in the form of scientific theories – which describe not what is particular in reality but what is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2FC5-25C8-46AF-9765-CFC4F82D87B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687960" y="3390480"/>
            <a:ext cx="1598400" cy="1410840"/>
            <a:chOff x="687960" y="3390480"/>
            <a:chExt cx="1598400" cy="1410840"/>
          </a:xfrm>
        </p:grpSpPr>
        <p:sp>
          <p:nvSpPr>
            <p:cNvPr id="215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5" idx="4"/>
              <a:endCxn id="217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>
              <a:off x="68796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217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17" idx="4"/>
              <a:endCxn id="222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25" idx="4"/>
            <a:endCxn id="226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227" name=""/>
          <p:cNvGrpSpPr/>
          <p:nvPr/>
        </p:nvGrpSpPr>
        <p:grpSpPr>
          <a:xfrm>
            <a:off x="5107680" y="572760"/>
            <a:ext cx="1750680" cy="1410840"/>
            <a:chOff x="5107680" y="572760"/>
            <a:chExt cx="1750680" cy="1410840"/>
          </a:xfrm>
        </p:grpSpPr>
        <p:cxnSp>
          <p:nvCxnSpPr>
            <p:cNvPr id="228" name=""/>
            <p:cNvCxnSpPr>
              <a:stCxn id="229" idx="4"/>
              <a:endCxn id="225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10768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225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4"/>
            <a:endCxn id="233" idx="1"/>
          </p:cNvCxnSpPr>
          <p:nvPr/>
        </p:nvCxnSpPr>
        <p:spPr>
          <a:xfrm>
            <a:off x="4876560" y="1998720"/>
            <a:ext cx="1562760" cy="16596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37" name=""/>
          <p:cNvCxnSpPr>
            <a:stCxn id="226" idx="4"/>
            <a:endCxn id="234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236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6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41" name=""/>
            <p:cNvSpPr/>
            <p:nvPr/>
          </p:nvSpPr>
          <p:spPr>
            <a:xfrm>
              <a:off x="424944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endCxn id="236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24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10920" y="4330800"/>
            <a:ext cx="8382600" cy="1917720"/>
            <a:chOff x="610920" y="4330800"/>
            <a:chExt cx="8382600" cy="1917720"/>
          </a:xfrm>
        </p:grpSpPr>
        <p:grpSp>
          <p:nvGrpSpPr>
            <p:cNvPr id="245" name=""/>
            <p:cNvGrpSpPr/>
            <p:nvPr/>
          </p:nvGrpSpPr>
          <p:grpSpPr>
            <a:xfrm>
              <a:off x="610920" y="5410080"/>
              <a:ext cx="8304480" cy="838440"/>
              <a:chOff x="610920" y="5410080"/>
              <a:chExt cx="830448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610920" y="5502240"/>
                <a:ext cx="211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stance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733920" y="5410080"/>
                <a:ext cx="5181480" cy="838440"/>
                <a:chOff x="3733920" y="5410080"/>
                <a:chExt cx="5181480" cy="838440"/>
              </a:xfrm>
            </p:grpSpPr>
            <p:pic>
              <p:nvPicPr>
                <p:cNvPr id="2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39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1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24280" y="5410080"/>
                  <a:ext cx="83844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0773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34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 rot="5383800">
              <a:off x="5984280" y="2249280"/>
              <a:ext cx="912960" cy="5100840"/>
            </a:xfrm>
            <a:custGeom>
              <a:avLst/>
              <a:gdLst>
                <a:gd name="textAreaLeft" fmla="*/ 583200 w 912960"/>
                <a:gd name="textAreaRight" fmla="*/ 913320 w 912960"/>
                <a:gd name="textAreaTop" fmla="*/ 132840 h 5100840"/>
                <a:gd name="textAreaBottom" fmla="*/ 4968000 h 51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f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4295880"/>
            <a:ext cx="1067040" cy="0"/>
          </a:xfrm>
          <a:prstGeom prst="line">
            <a:avLst/>
          </a:prstGeom>
          <a:ln w="57240">
            <a:solidFill>
              <a:srgbClr val="99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BFF2-67E9-4927-95A8-50809518076C}" type="slidenum">
              <a:t>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 portion of reality that forms the subject-matter of a single science or technology or mode of study or administrative practice ...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DEA4-AC8D-443E-96AE-6A180A464FF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DD48-6DAD-490A-BCBB-EFC2505F02F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representational artifac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comparable to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ience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A6B6-4923-4801-BEFF-635C37EFCF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057400"/>
          <a:ext cx="8458200" cy="36576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E7BF-3E5D-49F8-8E0F-7782DFDE059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ich are minimal (ato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0E79-049A-4470-B7E4-6762060CD9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AB83-9449-4313-B802-4563B3624EC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92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849560" cy="579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representational units, no ‘atom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11AB-4CC1-4EA0-91D6-B33284A2595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50680" y="944280"/>
            <a:ext cx="7988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99A7-5889-4CE0-9A17-A281F1000280}" type="slidenum">
              <a:t>33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F0F1-CADF-4C08-8C8F-C473D254779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5400000">
            <a:off x="1090800" y="265968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D110-89C8-4ED6-BF54-7F4C760F428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4335840" y="1836000"/>
            <a:ext cx="1957320" cy="1181160"/>
          </a:xfrm>
          <a:custGeom>
            <a:avLst/>
            <a:gdLst>
              <a:gd name="textAreaLeft" fmla="*/ 305640 w 1957320"/>
              <a:gd name="textAreaRight" fmla="*/ 1712880 w 195732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30BC-51A1-489C-9DEF-47D32D705C8D}" type="slidenum">
              <a:t>3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F030-3A58-46F8-98E8-3C7719CD53C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 represent universals in re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8BDF-5891-4214-9488-237D3552502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” is not the name of a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E04A-2C70-4B46-95AB-1A80DEE0259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91440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types of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-scienc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pture terminology-level knowledge used by best current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e.g. billing ontologies, bloodbank ontologies, lab workflow ontolog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CCB9-0690-47A8-87B6-CB8BF58D63F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685800" y="4952880"/>
          <a:ext cx="8229600" cy="19116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715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659D-5AB2-4CA1-92AB-D6A5375BD742}" type="slidenum">
              <a:t>40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y vs. Catalo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520" y="3124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AB66-D102-4B16-98E4-DEAED9FA33C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we know which general terms designate univers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ghly: terms used by scientists to designate entities about which we have a plurality of different kinds of testable pro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cell, electron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B53D-9EC4-4069-AC20-2CBB55177A1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fiat demar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over 30 years of age with family history of diabet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curvature of sp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 in trial #20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EE07-2106-466E-8E1B-7A4ABC7844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r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A-approved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F6CF-1481-462D-8E86-B58AEA73B6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ministrative ontologies often need to go beyond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on stairs or ladders in water transport injuring occupant of small boat, unpowere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way accident involving collision with rolling stock and injuring pedal cycli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traffic accident involving motor-driven snow vehicle injuring pedestria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3502-7D10-4198-8389-515A5C35FE0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a,b,c,...}    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367B-A214-4B75-996A-BDD2C5C85F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ximal collection of particulars determined by a general 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‘cell’. ‘electron’), (‘ ‘restaurant in Palo Alto’, ‘Italian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CEC8-EE7C-4D31-8DD5-3F087E0EC85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general term can be used to refer both to universals and to collections of particulars. Consi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infectious retr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preading very rapidly through A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5F3C-126A-43F3-853C-E17FB510D39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c,d,e,...}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18924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328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75C7-DFF8-42F1-A1D8-9ACE32511D6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tific ontologies have special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term in a scientific ontology must be such that the developers of the ontology believe it to refer to some entity on the basis of the best current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0489-A0E0-4923-9F1D-8449385AC07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ens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ension of a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class: instance of 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t is the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class of all entities to which the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appl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16F9-A9E2-4C8A-9EF6-C43784BAEA4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C377-5456-4B26-B8F7-EBDC3AAB6D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C1EA-AA39-440A-9C51-EAE9DD1B330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ss defined by a general term which does not designate a unive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lass of all diabetic patients in Leipzig on 4 June 19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2B3D-24E7-4AB2-A226-AEA978DB152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2495520"/>
            <a:ext cx="84582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bling of Finnish s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mber of Abba aged &gt; 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AFC9-4337-45F4-8C50-3A1836311C6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minology =de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are natural language terms (with IDs, synonyms, comments, etc.) which are intended to designate universals together with defined class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4DDC-FF50-4A6B-9B13-482AD92FF61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, classes,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981080"/>
            <a:ext cx="39625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048120"/>
            <a:ext cx="71629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343400"/>
            <a:ext cx="9144000" cy="8380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62920" y="4343400"/>
            <a:ext cx="1981080" cy="838080"/>
            <a:chOff x="7162920" y="4343400"/>
            <a:chExt cx="1981080" cy="838080"/>
          </a:xfrm>
        </p:grpSpPr>
        <p:sp>
          <p:nvSpPr>
            <p:cNvPr id="353" name=""/>
            <p:cNvSpPr/>
            <p:nvPr/>
          </p:nvSpPr>
          <p:spPr>
            <a:xfrm>
              <a:off x="7162920" y="4343400"/>
              <a:ext cx="0" cy="838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2920" y="4343400"/>
              <a:ext cx="1981080" cy="838080"/>
            </a:xfrm>
            <a:prstGeom prst="rect">
              <a:avLst/>
            </a:prstGeom>
            <a:solidFill>
              <a:srgbClr val="99ccff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8A6B-65D8-4F3F-97EA-72A345DE379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versals &lt; defined classes &lt; ‘concep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’ which do not correspond to defined 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or other procedure not carried out because of patient's decisio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nippl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77D2-D785-4840-BB58-CE20FC630CD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cientific) Ontology =de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743120"/>
            <a:ext cx="8458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ose relations between these universals which obtain universally (= for all insta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71E7-6798-4DB8-B5D1-954841E86C7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507A-A9D4-4B24-803F-1DE40374A3D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ability is cru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tibility with neighboring scientific ontologies is cruci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should not be too easy to add new terms to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introduce these features in clinical medicine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5275-66CC-406E-8ADA-C27A24DB19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scientists to create an initial top-level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~50 most commonly used terms corresponding to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 these terms into an inform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y according to this Universality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is_a 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n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 missing terms to give a complete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ve it to domain scientists to populate the lower levels of the hierarc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02F8-8237-4106-84BC-D17289954D7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 of Low Hanging Fru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even absolutely trivial assertions (assertions you know to be universally tru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is_a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need to be led by the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4CAB-8F6A-4D86-98D6-AB56437DC84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opology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41C4-C0E6-45F2-B07D-BD74DBC8706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ingular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in ontologies represent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E343-947E-4296-BB2A-0719E7CD0EC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al: Each term in an ontology represents exactly one univer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8200" y="2514600"/>
            <a:ext cx="6556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universals also of collectiv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x of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F361-4B40-4B42-929B-BAF559CE8B9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se-mention con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eptual Entities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 organizational header for concepts representing mostly abstract ent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is healthy and has eight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C5FD-C058-4D81-B2F6-9A55C9550C3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words an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concepts in our minds and entitie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: avoid the word ‘concept’ entir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756F-00A3-480F-9A92-14458568181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’ = def. ‘a  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2D5C-A9E3-4417-BE18-B5DC89343BC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rin therapy’ is an instance of ‘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roblems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misuse of quotation 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onfusion of instances and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onfusion of concept and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7FA3-00FD-48F3-91F2-A59951A1AD9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0AC1-CBF2-4495-A5FB-7EEFA11BBF5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ssue of how the ontology will be used is not a factor relevant for determining which entities in the ontology will be selected as universals (types, kinds, ... cla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decision is made on the basis of each specific use, this thwarts reu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0F69-4706-408B-8F3F-B1B375D35E7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ake of interoperability with other ontologies, do not give special meanings to terms with established general mea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on’t use ‘cell’ when you mean ‘plant cell’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D2E0-72FB-4637-88E7-7B0D91953CB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NP: International Classification of Nursing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=def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616C-5E30-4793-A020-5A84CACFD14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y definitions wherever pos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oth human-understandable natural language definitions, and equivalent formal defini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57BC-6628-44EF-ADD2-D6120283C68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erm should have at most one definition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which may have both natural-language and formal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AA2E-FC7A-4A74-B6F7-06654E79FDF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7156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blem of Circu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= def. A person with an identity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0C83-0EB3-41F6-8E71-6AFEAFD7EA7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ircular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term defined should not appear in its own defini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9276-25E7-451C-BA70-0D4B1C6CD730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L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pping a medication’ = de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0104-924E-406D-9CE6-C3B615875C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finition should use terms which are easier to understand than the term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L7 creates a topsy turvy world, in which simple things are made difficul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0A91-F9FC-4193-A0CE-8FBDB67EEF9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ristotelian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 is a B which C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1D14-61AB-4938-89C5-DE4B542CC06E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seek to define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1136-20DC-4319-AAC3-2EBE6A9E5FA7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ies may be brought into existence by the ontology itself. (Convention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task-dependent – reusability and compatibility not (always)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may invent dummy entities (‘surgical procedure not performed because of patient request’) e.g. for forensic reasons (reality and knowledge are confu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285B-0236-447C-BBD8-3DA58ED2CB1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every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erms and some relations ar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y cannot be defined (on pain of infinite reg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rimitive rel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1642-AC7E-4C35-B5F5-F9F69FB56D66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 good, general constraint on a theory of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2715840"/>
            <a:ext cx="84582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linguistic expression ‘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’ means 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now’ means: 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neumonia’ means: pneumon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8AC6-4E63-422E-A173-6068D615C02C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L7 Reference Informatio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’ does not mean: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ord of medication in an information system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ping a medication’ does not mean: stopping a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ACD1-D641-4231-A626-368D1569FDF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les for formatting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crony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mass terms (‘tissue’, ‘brain mapping’, ‘clinical research’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ach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in an ontology is shorthand for a term of the form ‘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8400-DF77-4C10-B6D2-F577ED1F138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ocit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hould have the same meanings on every occasion of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y should refer to the same univers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ntological relations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uld be used in the same way by all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1E8A-A3D7-4726-B016-83EC8AE833F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should include only those relational assertions which hold univers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50C1-5878-47FC-831D-7FD26ECB281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, order will mat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as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ult transformation_of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 transforms_into 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D9F9-19DB-4378-B9B3-CFC1A645812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al pneumonia caused by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A901-EF84-43DD-8DAE-18B71C47AAB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col-design earlier_than result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ults analysis later_than protocol-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6BA9-6382-4626-8A45-91470F6E909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2277720"/>
            <a:ext cx="84582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ments of universals are not themselves univers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am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embra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ther metalworker in New Zea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0975-BC0D-4490-8B53-0798B8CD5A5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shortfalls of existing administrative ontologies can be overcome by adopting the scientif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, in the long run,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actic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ontolog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 data mod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DA0F-2BD0-44B8-93F6-26949F85FA6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tology of universals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gic of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onjunctive and disjunctive universal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atomic structure, system, or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usculoskeletal and connective tissue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heumatism, excluding th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4B7C-DCBD-4FDC-8B86-48CEE432A19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universals exist in reality is not a function of 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class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loc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thropathies not otherwis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4A48-C555-4ED8-9331-A068D177792B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ep Epistemology Separate from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852560"/>
            <a:ext cx="8686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 th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not know wher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s with unknown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well-constructed ontology should grow linearly; it should not need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r relations becaus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creas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knowled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8E27-2BF2-4D0F-AD77-E36CADA2E6D4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surmise that this is a case of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rmised pneumon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ep Sentences Separate from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8616-701C-4A1E-BF0B-608393B8FA15}" type="slidenum">
              <a:t>93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gle Inheri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kind in a classificatory hierarchy should have more than on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ent on the immediate higher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C029-9A8E-489F-A299-CD18B90AB840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1080" y="3637080"/>
            <a:ext cx="33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92640" y="57625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692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244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57760" y="0"/>
            <a:ext cx="1600200" cy="1295280"/>
            <a:chOff x="3857760" y="0"/>
            <a:chExt cx="1600200" cy="1295280"/>
          </a:xfrm>
        </p:grpSpPr>
        <p:sp>
          <p:nvSpPr>
            <p:cNvPr id="441" name=""/>
            <p:cNvSpPr/>
            <p:nvPr/>
          </p:nvSpPr>
          <p:spPr>
            <a:xfrm>
              <a:off x="3857760" y="0"/>
              <a:ext cx="1600200" cy="1295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86360" y="123120"/>
              <a:ext cx="1143000" cy="986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C024-CA62-4C5A-A525-94A3E8E3FBF5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5960" y="2499840"/>
            <a:ext cx="82231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ource of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laz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as obstacle to integration with neighboring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Aristotelian methodology for defining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statistical search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857760" y="0"/>
            <a:ext cx="1600200" cy="1600200"/>
            <a:chOff x="3857760" y="0"/>
            <a:chExt cx="1600200" cy="1600200"/>
          </a:xfrm>
        </p:grpSpPr>
        <p:sp>
          <p:nvSpPr>
            <p:cNvPr id="446" name=""/>
            <p:cNvSpPr/>
            <p:nvPr/>
          </p:nvSpPr>
          <p:spPr>
            <a:xfrm>
              <a:off x="3857760" y="0"/>
              <a:ext cx="16002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86360" y="152280"/>
              <a:ext cx="114300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9D38-1F1A-4968-984E-D2244D7802D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3280" y="35812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67880" y="57913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0520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0072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857760" y="0"/>
            <a:ext cx="1600200" cy="1447920"/>
            <a:chOff x="3857760" y="0"/>
            <a:chExt cx="1600200" cy="1447920"/>
          </a:xfrm>
        </p:grpSpPr>
        <p:sp>
          <p:nvSpPr>
            <p:cNvPr id="457" name=""/>
            <p:cNvSpPr/>
            <p:nvPr/>
          </p:nvSpPr>
          <p:spPr>
            <a:xfrm>
              <a:off x="3857760" y="0"/>
              <a:ext cx="1600200" cy="1447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6360" y="137520"/>
              <a:ext cx="1143000" cy="110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2452-7686-4A7A-B680-962A7BEEB28B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s_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Overlo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ccess of ontology alignment demands that ontological relations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, part_of, 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have the same meanings in the different ontologies to be alig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DA14-B728-4490-A3A0-6049EA8EDF2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i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anings of compound terms should be determ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by the meanings of component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gether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rules governing syn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631B-CF7D-4904-B114-F33D6AB0D39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45:10Z</dcterms:created>
  <dc:creator>phismith</dc:creator>
  <dc:description/>
  <dc:language>en-US</dc:language>
  <cp:lastModifiedBy>Barry Smith</cp:lastModifiedBy>
  <dcterms:modified xsi:type="dcterms:W3CDTF">2006-10-25T21:39:39Z</dcterms:modified>
  <cp:revision>91</cp:revision>
  <dc:subject/>
  <dc:title>NIH VISION THING</dc:title>
</cp:coreProperties>
</file>